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CE7-9AC2-421A-9382-8CD0B6CD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D27-2A95-41B6-999B-E1FC4FD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596-0ED1-4961-8034-A64CF4EC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7B7-BF61-4BEB-89BC-8B2EEA6C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7F0D-8F6A-47D5-BFE3-2579CDC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ED6A-B8B5-4A13-87DA-851BE44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E40-1BCE-42C1-96EB-5B2ABB12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00DF-3B3C-4890-854A-A9B07A7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24F-C9C5-4D9C-BBDE-CB6CDD7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A2CE-F4A4-479A-A39C-E9E9A69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3323-43DC-4774-A56E-B053D60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07F-659D-420F-9207-26A50E7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693-78D1-4DD4-8498-6F639B86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5CAF-3E6C-40C5-81E4-8C23AAD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663-0318-4DE5-8B30-B50C81D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B1F-DE5C-444E-941E-4737F46E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137-8FBB-46DE-82A3-79FC1545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568-2228-430F-A3E2-10096A70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1A6-14E6-4BFE-A49E-F3B7D85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55C-EF65-4B8C-B5C7-04293175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9AF-437E-411E-AE11-664118A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9EE-DB30-4806-AD1D-84BC9E3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069-A574-4B4E-8DEE-89DA9E6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714-3183-4F9B-B55C-3B9E187D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826-7F96-4E3B-B10D-D83DC18FCA6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9B7-D0F6-4646-A055-94FCDA08121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6Z</dcterms:modified>
  <cp:revision>60</cp:revision>
  <dc:subject/>
  <dc:title>幻灯片 1</dc:title>
</cp:coreProperties>
</file>